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633302"/>
        <c:axId val="66471087"/>
      </c:barChart>
      <c:catAx>
        <c:axId val="986333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71087"/>
        <c:crosses val="autoZero"/>
        <c:auto val="1"/>
        <c:lblAlgn val="ctr"/>
        <c:lblOffset val="100"/>
        <c:noMultiLvlLbl val="0"/>
      </c:catAx>
      <c:valAx>
        <c:axId val="664710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333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653D-D0E5-416D-85AA-EC89E65D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B856-5CF2-4D14-9231-C3ACBF2A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0F80-31A6-427C-AFFE-B6A0E3834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C7B7-C678-49E4-A0ED-147F9A544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D08D-A393-4937-9293-8B4209F4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0E7F-9712-434E-A5E9-90B6E920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71EB-5F96-43B2-9C8D-52C29279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6B19-A041-4860-B816-92860622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2453-4EE5-4611-A3D5-36241FD6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31A3-DE15-440C-9A06-7F349E4C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1FD9-0A2C-4C6B-8428-C731CF56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9951-A709-45BD-AEA7-36E4F0D7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4920E-DC43-4D73-97A4-09BDFCC2BE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