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40313"/>
        <c:axId val="62522222"/>
      </c:barChart>
      <c:catAx>
        <c:axId val="65740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22222"/>
        <c:crosses val="autoZero"/>
        <c:auto val="1"/>
        <c:lblAlgn val="ctr"/>
        <c:lblOffset val="100"/>
        <c:noMultiLvlLbl val="0"/>
      </c:catAx>
      <c:valAx>
        <c:axId val="62522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40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5E6-014F-4480-9F29-E4DBE8AD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D49-6729-4888-8DE8-E0181FEA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551-458D-4B37-B23D-BEFA91FF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B5A-7081-4187-B9C1-F4EF45EF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B40-77AD-405F-B9D0-EEC5F385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EEA-11F5-445E-8CC9-5902F89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270-C800-4DC5-8A45-B652E543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14C-70BE-40FB-83FD-FA3EEA2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1D2-7B67-4E43-B20E-72317EE1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B49-D5DA-4D0E-8C8C-BD7D1A08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903-E87C-486E-A6F4-4F388D0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2B4-3ADC-46DC-BA66-9B2B343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60ED9-29EB-488B-9ED1-2F5AAF2280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