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84706"/>
        <c:axId val="73386181"/>
      </c:barChart>
      <c:catAx>
        <c:axId val="128847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86181"/>
        <c:crosses val="autoZero"/>
        <c:auto val="1"/>
        <c:lblAlgn val="ctr"/>
        <c:lblOffset val="100"/>
        <c:noMultiLvlLbl val="0"/>
      </c:catAx>
      <c:valAx>
        <c:axId val="73386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847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56A6-5ED4-4F98-837B-457446CE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3E4-1BBC-4A2A-8C03-41EDDD99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C6F5-285D-4590-8485-A5CFCAAD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0E8-BBC5-4F65-9102-1201E104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E33-7E40-499F-8F73-5017A6D9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B08-C26E-4D8D-B93E-C4C2A947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BF1C-9EE4-45E4-9BD3-1742E105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382-3115-43D8-81AB-72FF1FF9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D6B-BEB4-4128-982F-34230040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C51-47DB-497B-84FD-80C781C2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0E5-615D-4201-A7E1-7CB37F01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8E9-0152-4E0A-A928-66D3BF37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595F3-C835-414A-99FD-2EC131EB0C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