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33653"/>
        <c:axId val="26325190"/>
      </c:barChart>
      <c:catAx>
        <c:axId val="60333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25190"/>
        <c:crosses val="autoZero"/>
        <c:auto val="1"/>
        <c:lblAlgn val="ctr"/>
        <c:lblOffset val="100"/>
        <c:noMultiLvlLbl val="0"/>
      </c:catAx>
      <c:valAx>
        <c:axId val="26325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33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635-49BA-48FF-B7D8-24B48E80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67A-0165-447D-B388-D8485E5E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120-7A8A-4089-BB94-D3B530DB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E1A-7F76-4DD0-8AEF-54B3D977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7D7-BA08-408B-BEA0-08BEFE3C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13FC-F987-45B6-AD02-7AA3C67A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F80-37CC-4A80-9973-7574941B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1FC-18AB-4EF6-83F0-4291109F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BA8-78A0-41EA-9CB8-4370EC05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C462-966E-4732-A24C-E6D75236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661-F494-49E8-9265-CCFD0F7E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2900-AFE8-47CE-B8FA-A0D79CFA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B8A91-7645-4302-AB91-EF825C8121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