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812938"/>
        <c:axId val="19776664"/>
      </c:barChart>
      <c:catAx>
        <c:axId val="428129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76664"/>
        <c:crosses val="autoZero"/>
        <c:auto val="1"/>
        <c:lblAlgn val="ctr"/>
        <c:lblOffset val="100"/>
        <c:noMultiLvlLbl val="0"/>
      </c:catAx>
      <c:valAx>
        <c:axId val="197766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8129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E656-7708-4958-ACF6-A98BBDD6B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D158-3AED-4AE6-A691-B97B6167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F0B1-7C1D-49C9-8A42-63815213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6D43-E358-4400-8570-56E4E7C44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F90A-E5C3-4440-8AD0-E8067617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9BAB-5837-4C6D-B2FD-9D5CF584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0CBB-49B0-4459-BA18-0C75809C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13E4-894C-4225-812F-47A872DE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4D50-9612-4EEA-831E-B60DC5A1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2388-3508-4B71-9A73-66AFAC22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FEF3-A19B-42C1-B608-11B8E979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2985-3945-413A-9EF4-DF31DC4E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7BAA7-0DA4-427B-B0DF-17C78E73AD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