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74228"/>
        <c:axId val="63400496"/>
      </c:barChart>
      <c:catAx>
        <c:axId val="967742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00496"/>
        <c:crosses val="autoZero"/>
        <c:auto val="1"/>
        <c:lblAlgn val="ctr"/>
        <c:lblOffset val="100"/>
        <c:noMultiLvlLbl val="0"/>
      </c:catAx>
      <c:valAx>
        <c:axId val="634004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742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9E1-7023-4511-8317-5C6FCFF1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610-C528-42C4-BDB3-3DE4EB95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791-F45F-47B8-868E-59BD2807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D232-7788-4EC5-8784-7C15247C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DDC-5E46-4C50-8B2E-BAB572B1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038B-A7BA-4E7A-8C4D-1B86ED82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F82-49BD-4DE7-B3B5-AAC964E1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611-CE27-446E-9F53-B599C4AD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1B4C-7227-4619-961B-E6355D53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916D-FF82-4429-A539-1314DFE1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142-A300-4D4D-974F-6ABF983B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3DA2-0F7D-463D-A44D-08B8CDC3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20F35-FAEE-41BC-A606-49BE717251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