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654916"/>
        <c:axId val="80336846"/>
      </c:barChart>
      <c:catAx>
        <c:axId val="336549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36846"/>
        <c:crosses val="autoZero"/>
        <c:auto val="1"/>
        <c:lblAlgn val="ctr"/>
        <c:lblOffset val="100"/>
        <c:noMultiLvlLbl val="0"/>
      </c:catAx>
      <c:valAx>
        <c:axId val="803368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549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06E-11B5-48CF-864C-73AE6F15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F18-53F9-4E4F-8682-AE9A66C7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C211-3DFC-46B6-A403-87070224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3ADA-9511-4AAC-9430-A8982CEF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AB52-387E-4B0F-9D99-3F4001BC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496D-F35E-4721-82EE-4C59F29B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DF4-1EEB-4941-B9E2-EB9C873B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6EF-7989-4547-AEEF-050BFB8C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6B57-DE47-4C99-AC4F-EFD84597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1E93-FB41-4399-8224-45CBA805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DABC-8041-4260-B4EB-4120EB49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27D7-91F1-4D0F-A0BE-1B5993A3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5438A-5634-473E-8360-A91FBC7C4B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