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48024"/>
        <c:axId val="83077385"/>
      </c:barChart>
      <c:catAx>
        <c:axId val="10748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7385"/>
        <c:crosses val="autoZero"/>
        <c:auto val="1"/>
        <c:lblAlgn val="ctr"/>
        <c:lblOffset val="100"/>
        <c:noMultiLvlLbl val="0"/>
      </c:catAx>
      <c:valAx>
        <c:axId val="83077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48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50D-1A1D-4DDB-A0B9-423DD600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4ED-73FA-44C3-8D47-D8E07DD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564-4498-41F3-9322-98EED8E1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4BC-2BD0-4DBD-9CE7-600545F2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E55-0011-4C32-8ADA-FFDFAF05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670-2632-4F12-A9F4-D3D3F878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DC5-F464-4504-B353-94103AB4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F29-1A3B-41BE-B07A-986DACD7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037-9B92-4016-B1DC-E4392EBF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A58-6879-4087-99F9-5E5C42E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E1D-0C50-4616-8AFD-32EEB23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86A-B719-41D6-9181-CCFF8E4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E6379-1CD6-4948-BE82-7BA6E23B1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