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00931"/>
        <c:axId val="43441700"/>
      </c:barChart>
      <c:catAx>
        <c:axId val="33009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441700"/>
        <c:crosses val="autoZero"/>
        <c:auto val="1"/>
        <c:lblAlgn val="ctr"/>
        <c:lblOffset val="100"/>
        <c:noMultiLvlLbl val="0"/>
      </c:catAx>
      <c:valAx>
        <c:axId val="434417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009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309B-F76C-48BC-B7ED-202BF4C7C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BEF2-8F18-4BB4-813B-EA662AEF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4170-F11C-4432-9438-A4BFC1FD5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7B3A-B500-4B7F-B486-442CE4AC1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2F20-97B5-4146-88EA-2CC89228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FE84-172E-4F1F-B4F6-E94BD0C3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074F-B5B0-4DF4-BE99-0FD3A2FF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5B9C-8A0A-4262-9CCA-54CFE653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6848-D950-41AC-B424-B2AC9FE7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83CF-F721-4E5A-A969-6B5C5C76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CEB3-78E9-434B-88B9-25A1F34F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9B0B-516D-42E6-9CD4-E2CCF249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467E7-B6BD-4A98-B784-118DB2D0F6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