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267411"/>
        <c:axId val="94505962"/>
      </c:barChart>
      <c:catAx>
        <c:axId val="262674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505962"/>
        <c:crosses val="autoZero"/>
        <c:auto val="1"/>
        <c:lblAlgn val="ctr"/>
        <c:lblOffset val="100"/>
        <c:noMultiLvlLbl val="0"/>
      </c:catAx>
      <c:valAx>
        <c:axId val="945059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2674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83CD-D376-4BDB-AD03-67F350CD2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33FD-165E-4AE3-BFD2-3CA32B300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BA28-1F2D-437D-BE67-4704350CB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2FBB-0F01-42C4-84FE-05397C159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14F6-0986-4C21-A2E4-B2B09B308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D1D6-D3EE-4676-B976-87D7C4087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6624-3FCE-4B3F-8C5C-FFDE34516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6AFE-2B58-4FBD-A3FF-76B138315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CF61-4B93-4AE9-9CAB-507312212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D7A1-57BA-4178-9C05-077E51B10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B828-17D5-404C-9779-E99FE5877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BD6B-FBB4-48F3-A946-D9D381A6F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FCB43E-6DAD-4F45-811B-6F782F43FC2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