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713990"/>
        <c:axId val="2085367"/>
      </c:barChart>
      <c:catAx>
        <c:axId val="927139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85367"/>
        <c:crosses val="autoZero"/>
        <c:auto val="1"/>
        <c:lblAlgn val="ctr"/>
        <c:lblOffset val="100"/>
        <c:noMultiLvlLbl val="0"/>
      </c:catAx>
      <c:valAx>
        <c:axId val="20853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7139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BCB1-C19D-4EC5-A4FF-B8FEE2D88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5CB1-AC2B-4BB4-B624-B12C9EF8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64F9-1FDB-411B-9E34-74318840B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F0C4-4AC9-4FA4-904C-A486B0D46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A13E-8665-4DAA-A43C-C29958C3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99A6-7480-4362-81A9-57E3227F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1DFC-B2B2-4AAD-8E42-11C0BF2C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1D2E-ED60-4D13-A25F-8A4F1DBB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2D2E-FA21-417B-AA46-5165B22E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E0A3-99E0-4A44-8AC3-9204FFFB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7DE7-D630-4E33-AAB2-CB01F4EC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0B6C-F972-46F3-8DF1-D2149D29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40B5F-895E-4171-A79B-3A452A4D06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