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35420"/>
        <c:axId val="4004879"/>
      </c:barChart>
      <c:catAx>
        <c:axId val="59535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4879"/>
        <c:crosses val="autoZero"/>
        <c:auto val="1"/>
        <c:lblAlgn val="ctr"/>
        <c:lblOffset val="100"/>
        <c:noMultiLvlLbl val="0"/>
      </c:catAx>
      <c:valAx>
        <c:axId val="4004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35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3E51-CED0-4CB2-9266-BA2170A6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E8DF-7B84-4526-AD72-9E1620E8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5C2-BE5E-427A-87CE-989853F2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FA9-9C85-4BE6-ADBC-4A482EAA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890-FEC3-4BDC-82D4-94DA0F03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CD8-623C-41B0-A961-A6B5E425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B17-4697-436D-BA4E-155363DA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55D7-7783-4409-8E60-D97D9E65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6549-64D2-4D76-B0A5-EDA88C91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D97-1A7E-4FF0-9A45-DA0D5B30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023-DE09-4FFA-A76A-87763FE6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269-2D32-4D5A-B9A0-16DE26D1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82F5C-B327-47F2-BA17-C36E691532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