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18774"/>
        <c:axId val="61314990"/>
      </c:barChart>
      <c:catAx>
        <c:axId val="22718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14990"/>
        <c:crosses val="autoZero"/>
        <c:auto val="1"/>
        <c:lblAlgn val="ctr"/>
        <c:lblOffset val="100"/>
        <c:noMultiLvlLbl val="0"/>
      </c:catAx>
      <c:valAx>
        <c:axId val="61314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18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208-39D6-47AE-B978-C363C152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3A5-1ABC-42D2-B93F-15CDE2E6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D78-334F-4111-9301-003B8F98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B50-2FE0-431E-B57D-6DC142AC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7616-E9C0-4B1F-9308-344A31F2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1CA-6CBB-4958-BFEE-89D3E557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FFA-3996-4C74-B6D0-FAA371BC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FE4-2DD0-4D83-9ABF-121A35B6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435F-49B5-47DA-9581-E8F7C80D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9C6-F039-41DD-971E-72D15A34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ADD-B0A0-4EC2-94F7-3957C068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F70-BF7A-4068-835B-35A91D75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260A8-6F9B-45A5-9526-0E67931D74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