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834549"/>
        <c:axId val="88644783"/>
      </c:barChart>
      <c:catAx>
        <c:axId val="288345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644783"/>
        <c:crosses val="autoZero"/>
        <c:auto val="1"/>
        <c:lblAlgn val="ctr"/>
        <c:lblOffset val="100"/>
        <c:noMultiLvlLbl val="0"/>
      </c:catAx>
      <c:valAx>
        <c:axId val="886447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8345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23E6-FE2E-484E-8563-9D950CB78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9B67-C916-46C7-A33D-6C3A90D90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4FCB-4701-4AF4-9150-25D399AD2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7E4B-97EE-440D-98AA-3944D7052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1E13-1911-4D04-BFAD-D2BCF64C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41BE-F598-4F13-97EE-77EF2DAF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DF7D-B088-4391-98DE-86E554A5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A4B8-F132-4D7F-80FE-5D932D8D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705B-4FBA-4EE3-A400-113B8099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54A7-18CE-42C2-9EE9-1DA65A73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4FBC-2D26-49D4-B0AE-0B111462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2123-7448-4FDE-8A75-6564A6C2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83BF69-DD60-42F9-B041-A9A759DEDC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