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56327"/>
        <c:axId val="34648041"/>
      </c:barChart>
      <c:catAx>
        <c:axId val="10756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48041"/>
        <c:crosses val="autoZero"/>
        <c:auto val="1"/>
        <c:lblAlgn val="ctr"/>
        <c:lblOffset val="100"/>
        <c:noMultiLvlLbl val="0"/>
      </c:catAx>
      <c:valAx>
        <c:axId val="34648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56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CAB-0DFA-40F7-854A-1E9D417B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5AA-09F4-4107-8038-2D3B6729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1C3-E70D-4A2A-B15B-EB4A5CC3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B45-7380-479F-9C44-40F3C00B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BC6-8191-4FAA-A135-E87E006D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D61-08AA-4E5D-820B-75A671EC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1F5-752F-420E-9FB7-8771428B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AA2-09F0-4568-AF54-6DA8368C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70F-6A18-4D27-A5D2-37C98B83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C7B-3771-4B0A-95F2-5E89A6A7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893-29E5-4321-856D-08B49DB2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AA3-0054-46B6-9D53-C8BD00A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6F1DA-2F78-49FB-ADD1-521441E7EC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