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36079"/>
        <c:axId val="1555206"/>
      </c:barChart>
      <c:catAx>
        <c:axId val="9503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5206"/>
        <c:crosses val="autoZero"/>
        <c:auto val="1"/>
        <c:lblAlgn val="ctr"/>
        <c:lblOffset val="100"/>
        <c:noMultiLvlLbl val="0"/>
      </c:catAx>
      <c:valAx>
        <c:axId val="1555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076-AA24-4225-B857-480740C3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A37-29CB-460C-BB3A-B27210D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531-5FC5-4423-B43C-C54C40E5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AAE-C72A-4A56-A7EC-A2668BC8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C99-EA35-4CD4-A0B5-DC366B2B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AB0-DDD5-4BC8-80F5-F82F32B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A8E-5223-46BC-9D0C-C5605177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050-50C0-4119-BD05-B333821F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86-3581-4A16-BB8E-A892B87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205-659C-4E44-AE3C-10FCD36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20F-0957-401D-B711-D380BEC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658-FF77-4568-B561-FA2A559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D02F4-80D2-413E-B170-FEE2AB8F61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