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78365"/>
        <c:axId val="24015917"/>
      </c:barChart>
      <c:catAx>
        <c:axId val="66778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15917"/>
        <c:crosses val="autoZero"/>
        <c:auto val="1"/>
        <c:lblAlgn val="ctr"/>
        <c:lblOffset val="100"/>
        <c:noMultiLvlLbl val="0"/>
      </c:catAx>
      <c:valAx>
        <c:axId val="24015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78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4A9-0B32-4925-9099-A993DB30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CBB-E68F-4F91-AA9E-A482FCA1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D7D-852F-4CD6-883F-D7E38A97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7BA-0E3B-4BBB-996D-9F54B2C7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709-8533-4149-8DE7-AC9B3ABD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00F-3E0C-4742-B39A-21F2F112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892-2CDA-4CD2-95C1-DFED4AD0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246-BF43-4532-86CB-239C608D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972-1039-4187-90C2-D8DE745B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3F3-9548-455C-9266-33A3E81B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0AF3-E0A5-4D2A-B9B2-934894A5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9AD-B4CE-4F35-A63E-D9607229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41984-8D5A-4264-A340-52ED6F898F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