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84895"/>
        <c:axId val="5094090"/>
      </c:barChart>
      <c:catAx>
        <c:axId val="11984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4090"/>
        <c:crosses val="autoZero"/>
        <c:auto val="1"/>
        <c:lblAlgn val="ctr"/>
        <c:lblOffset val="100"/>
        <c:noMultiLvlLbl val="0"/>
      </c:catAx>
      <c:valAx>
        <c:axId val="5094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84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64C-AFFC-42F5-98EE-6885178E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26D-9E64-4EEA-A08A-0CCEC2CD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060-018A-48BC-A416-B37B0759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CBA-3BF7-43D1-ABDB-EB999E79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8A6-C477-4740-AAA5-97F196E9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481-FC91-441D-82C1-54E99992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A39-4D94-4CF4-88ED-D4156246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385-9C9A-4D04-9E0A-002342CB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151-8653-4A77-B5DA-538FF6AC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F78-8449-4BC6-911A-8FEF0F52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9AA-D07F-4719-AA08-DBBA928C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005-C143-4D50-84CC-A6EDC39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5E31E-C2F7-4448-9FA1-212C8247CD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