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3931058"/>
        <c:axId val="18363127"/>
      </c:barChart>
      <c:catAx>
        <c:axId val="3393105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363127"/>
        <c:crosses val="autoZero"/>
        <c:auto val="1"/>
        <c:lblAlgn val="ctr"/>
        <c:lblOffset val="100"/>
        <c:noMultiLvlLbl val="0"/>
      </c:catAx>
      <c:valAx>
        <c:axId val="1836312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393105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81EA0-EF36-4C09-BE6A-5856CCDBB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DC190-04A3-40F9-AFE6-9C9B11012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978E0-E60D-4E83-85F4-BD2B35D3A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E24A5-149D-4844-BD4C-A01F465F0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002F5-8CFA-4555-A8A5-57E67401A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487FD-E7AC-4E8C-98AE-90667473F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6D239-A0F4-4695-B19A-7D672017F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01ED1-E897-462D-BE92-DB0D19DC8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E4C8B-59B8-490B-B098-C7FE1A71F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A040C-C0C5-4F5F-A518-8559B6B82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9D638-CEBB-4E96-A08D-16619355F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94895-899A-4751-8F9D-AAE3D605E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DD049F-0F6C-4465-803F-C9914BF0680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