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7646"/>
        <c:axId val="31155465"/>
      </c:barChart>
      <c:catAx>
        <c:axId val="8307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5465"/>
        <c:crosses val="autoZero"/>
        <c:auto val="1"/>
        <c:lblAlgn val="ctr"/>
        <c:lblOffset val="100"/>
        <c:noMultiLvlLbl val="0"/>
      </c:catAx>
      <c:valAx>
        <c:axId val="31155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8AA-65D9-4CCE-868D-7FD6AA5D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880-9CF0-478A-95EC-62E3F2A1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B23-A40B-4C59-8B99-B6B0336E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F60-4691-4DEB-AC4A-16A785AA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252-1B6A-4139-824B-B89F0D2C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7B3-2568-4161-993E-E5D4263A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4B7-125D-4238-AA1F-4D0A460D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BB6-03E6-4766-A563-AE332FDC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B2A-A25E-499E-BCC2-BD215F13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F4D-6DAB-426F-BD1D-D1B5D257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6EB-459F-43BD-8B3E-EDA3C70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73F-2E18-4A5B-ACEB-F0C4CDA4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F5300-CCDB-4D83-BC19-D48F7E32DB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