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39407"/>
        <c:axId val="64150713"/>
      </c:barChart>
      <c:catAx>
        <c:axId val="98239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50713"/>
        <c:crosses val="autoZero"/>
        <c:auto val="1"/>
        <c:lblAlgn val="ctr"/>
        <c:lblOffset val="100"/>
        <c:noMultiLvlLbl val="0"/>
      </c:catAx>
      <c:valAx>
        <c:axId val="64150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39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341-C514-4F7A-9A04-C02E932F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4A9-A1C2-40FB-99A4-68B67775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AABB-6DB7-444D-ADD1-6E2EAC93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88B7-A109-4FA2-BD89-FD4FC7E5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7889-2855-4DEA-8EF2-6D52DEB8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D0E-7CEF-4E5C-9ABE-239B60C7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B02-F053-4B83-8DBE-4156DEE7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0C9-B607-4113-91FC-42114020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AC0-6ED3-4A0D-BA12-DE5BE0D3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DAC-EFE9-4020-A547-C25BA4A6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458-78F9-4EFB-8698-BC425B1B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F3E-AF01-4926-8FE1-3949410E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C9F2F-8C46-4312-9764-4F4112F869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