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81111"/>
        <c:axId val="30340453"/>
      </c:barChart>
      <c:catAx>
        <c:axId val="60081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40453"/>
        <c:crosses val="autoZero"/>
        <c:auto val="1"/>
        <c:lblAlgn val="ctr"/>
        <c:lblOffset val="100"/>
        <c:noMultiLvlLbl val="0"/>
      </c:catAx>
      <c:valAx>
        <c:axId val="30340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81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551-DFB6-4FDD-A4B5-AD3458E1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AD9-D74E-4467-84CC-DA98ADA6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B33-5712-48E3-B3FB-5899DE1F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E7D-64A9-4057-868C-7A593597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A1D-E6DC-44A4-B927-E608664F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7FE-387B-470A-AECC-9D1043F2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12E-F4AF-452F-9458-015FB43C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EDB-CDD6-49DB-B42D-AD4BCB9D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93C-B4BA-435C-ADD8-8367DF83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AC6-ABCC-4144-843E-DD18068D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93C-ADAF-47C5-BF0B-84E7EE72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A4D-90A0-46A9-9784-24DD419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12732-8956-4656-8991-11899BC16A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