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8863"/>
        <c:axId val="48981571"/>
      </c:barChart>
      <c:catAx>
        <c:axId val="315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1571"/>
        <c:crosses val="autoZero"/>
        <c:auto val="1"/>
        <c:lblAlgn val="ctr"/>
        <c:lblOffset val="100"/>
        <c:noMultiLvlLbl val="0"/>
      </c:catAx>
      <c:valAx>
        <c:axId val="48981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E7C-73B8-4C6E-88F1-BA4F3917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841-847A-46B2-9C30-0BDAAE31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4FB-FEFE-416F-B2D4-7126DFA5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16E-BC5C-4C70-9E31-D72DB01A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F99-645F-497D-ADF4-7639068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805-AEE8-410B-A6AF-F910AE9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C7F-CCF8-410F-BCF9-E288B9D3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E72-C571-47E0-AA05-50C46CA8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8E7-FAC7-4F06-AADC-515BB95B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9EC-0C44-49C7-9C0E-10AD3CB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0EF-3092-42EB-B8FC-B6DADD5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4A9-99BF-4FC4-86AD-2F1B64B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0FC1F-FDB6-482A-A102-0369EF831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