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35098"/>
        <c:axId val="42050813"/>
      </c:barChart>
      <c:catAx>
        <c:axId val="65335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50813"/>
        <c:crosses val="autoZero"/>
        <c:auto val="1"/>
        <c:lblAlgn val="ctr"/>
        <c:lblOffset val="100"/>
        <c:noMultiLvlLbl val="0"/>
      </c:catAx>
      <c:valAx>
        <c:axId val="42050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5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9C3-8325-4583-AEA5-AAE69C3B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2C5-6734-4E57-99DE-02DACD5E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F84-A8AC-4EF8-9705-D275F6EB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49A-E075-4AD6-980F-D1191E3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443-CD9D-45B5-96EC-97B35EF0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444-EE5C-4371-9225-BB7DBD0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D28-0D11-40C3-B225-4611A06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E94-0748-41D2-952E-61C1BA2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FE3-A367-41F6-9CA0-D9171B7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AEE-B648-4984-A585-6BEF4AC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967-2D16-4A82-A2A2-03AD5EF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6EE-90C3-479F-A3E3-DA3C812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23E51-256E-432B-ADEB-24A4BF512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