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19805"/>
        <c:axId val="57006418"/>
      </c:barChart>
      <c:catAx>
        <c:axId val="33219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6418"/>
        <c:crosses val="autoZero"/>
        <c:auto val="1"/>
        <c:lblAlgn val="ctr"/>
        <c:lblOffset val="100"/>
        <c:noMultiLvlLbl val="0"/>
      </c:catAx>
      <c:valAx>
        <c:axId val="57006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19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796-496C-48BB-971B-5A65193E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798-6572-41C0-89A1-7353ED81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A17-E5BA-47C4-8989-CA349F1A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997-7811-4066-9044-505CB833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7EF-DC06-45A8-80E8-5AC1861D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2A1-5468-40A1-BAFE-3D86698B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112-3035-4383-9656-457BD283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A39-A863-4F3C-A1DD-B628000B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F5E-5824-422C-AEF4-498BF011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477-4298-4382-A439-EBF3366E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FD5-F482-46D7-B98F-2ABCD620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BC2-3FD6-4091-8B20-95CA5F7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6BAD1-3AD1-4B20-9CF7-C1327448B1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