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46582"/>
        <c:axId val="95536296"/>
      </c:barChart>
      <c:catAx>
        <c:axId val="88746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36296"/>
        <c:crosses val="autoZero"/>
        <c:auto val="1"/>
        <c:lblAlgn val="ctr"/>
        <c:lblOffset val="100"/>
        <c:noMultiLvlLbl val="0"/>
      </c:catAx>
      <c:valAx>
        <c:axId val="95536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46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37C-ADE6-4674-8577-3C8A84FF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18D-E4FC-425A-8ACD-DE0D638A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585-9260-48D6-9C8F-F7CC7170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911-2781-4317-8A0C-2C3A85AC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29A-8391-47FE-8B12-A8CAF417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8BC-6680-4D3A-8C2C-A1C9194E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D30-CBF6-43E3-A557-BB758FED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69B-F65A-447D-B6D8-6C41F322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8AF-5246-4DDB-AB5B-38A57F1D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A33-334B-43E5-B7C4-44BE19FC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09F-47F5-4342-8ED8-62619555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7D7-15C0-49AA-A9EB-A76669E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7634D-D366-4628-A768-2915D1F528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