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34276"/>
        <c:axId val="36527076"/>
      </c:barChart>
      <c:catAx>
        <c:axId val="45534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27076"/>
        <c:crosses val="autoZero"/>
        <c:auto val="1"/>
        <c:lblAlgn val="ctr"/>
        <c:lblOffset val="100"/>
        <c:noMultiLvlLbl val="0"/>
      </c:catAx>
      <c:valAx>
        <c:axId val="36527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34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873-7AB5-43AD-BBB1-2D339CD0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4C5-117E-46AE-9FA2-54A9B9D4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CEE-0A99-4413-BD1C-7B0673C0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A47-424A-499A-8309-5133F6F0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795-B978-4BCA-812A-13CB5A85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DAD-9406-42CC-8B46-FD62BB05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67A-BAFF-4309-9BF1-43E41BAE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60F-8A53-4CDD-8AE8-874AF7AA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826-B124-4360-A399-96DF93C7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DE5-39B0-4328-9A5C-ACC680B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F34-7C7B-4CF4-902A-A335F30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E9C-8954-40B8-9632-B335821E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F9F01-DCBD-44B5-A859-AEB77D1B60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