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224432"/>
        <c:axId val="82050699"/>
      </c:barChart>
      <c:catAx>
        <c:axId val="582244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050699"/>
        <c:crosses val="autoZero"/>
        <c:auto val="1"/>
        <c:lblAlgn val="ctr"/>
        <c:lblOffset val="100"/>
        <c:noMultiLvlLbl val="0"/>
      </c:catAx>
      <c:valAx>
        <c:axId val="820506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2244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1C8E-AB4B-452A-AB90-9ACD03171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C3AA-A30E-482A-BE3C-73A4FF46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8607-17A6-49EE-8FC2-32C6E43A1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50F1-2F8A-462E-9355-718B78A4E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65BD-C010-4329-A2E8-0A4186C8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F890-5DF0-4B91-A4B4-CBAFB99A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9205-B71D-4528-B86B-58C7C767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FAAF-794E-4012-8133-5E2856D8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7950-9B98-4D57-AA4D-04017BEE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1835-D304-4454-92CB-E6D42900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565D-8F30-42B9-8952-9186D82B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D670-5CEB-40CD-B9AD-B6427220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C91002-32EC-4C48-9CEA-D336EF3BEE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